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5F5-BE2D-46D2-9662-EE3C8B72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865-0DA7-477B-A0F7-AE845E24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A7E-3E52-43D7-81EB-1710DFCA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618-ACD5-41FF-B66E-F1F1DB8F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F80-DE1C-4F8C-945D-0D585156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ED6-1717-4A72-8D1C-1C1356FF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BAF-6F65-414E-9E29-80C502E4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A16-A703-4600-A9FC-B47BF4D8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9E9-B9DE-48D7-909F-DA9BBB20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941-1526-4705-9428-7D49A33D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E2B-1A91-4639-8178-214276BA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1AA-7A1B-4A5D-835D-6802CE33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144C-322C-4F36-B954-2289FB3CD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43000"/>
            <a:ext cx="5518080" cy="521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elevation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4417920" cy="502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7160" y="216000"/>
            <a:ext cx="77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Layers of Paddock Inf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verisjoined" descr=""/>
          <p:cNvPicPr/>
          <p:nvPr/>
        </p:nvPicPr>
        <p:blipFill>
          <a:blip r:embed="rId2"/>
          <a:stretch/>
        </p:blipFill>
        <p:spPr>
          <a:xfrm>
            <a:off x="1149480" y="1244520"/>
            <a:ext cx="4419360" cy="4994280"/>
          </a:xfrm>
          <a:prstGeom prst="rect">
            <a:avLst/>
          </a:prstGeom>
          <a:ln w="0">
            <a:noFill/>
          </a:ln>
        </p:spPr>
      </p:pic>
      <p:pic>
        <p:nvPicPr>
          <p:cNvPr id="45" name="98sorghum" descr=""/>
          <p:cNvPicPr/>
          <p:nvPr/>
        </p:nvPicPr>
        <p:blipFill>
          <a:blip r:embed="rId3"/>
          <a:stretch/>
        </p:blipFill>
        <p:spPr>
          <a:xfrm>
            <a:off x="1143000" y="1238400"/>
            <a:ext cx="4425840" cy="502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72320" y="1185840"/>
            <a:ext cx="2022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Use the forward and back arrows on your keyboard to animate each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08:43:46Z</dcterms:created>
  <dc:creator>b.whelan</dc:creator>
  <dc:description/>
  <dc:language>en-US</dc:language>
  <cp:lastModifiedBy>deskpro</cp:lastModifiedBy>
  <dcterms:modified xsi:type="dcterms:W3CDTF">2001-07-26T04:32:21Z</dcterms:modified>
  <cp:revision>9</cp:revision>
  <dc:subject/>
  <dc:title>No Slide Title</dc:title>
</cp:coreProperties>
</file>